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7CA-3FF4-474F-B17A-6BF13741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415-5118-490F-93B1-EE5E287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F50-9294-4FAA-9D4D-93B97DD4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FBA-8AD5-45BA-9DC5-D94EF94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0DA-B736-4937-A3F5-DBF141B8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02C-1D9F-4542-80BF-9173B04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B2B-8876-4C92-89A4-5BF0F44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660-1D07-42A6-A9DD-1850710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7E8-DEE0-4920-A962-F346B30B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999-D920-48DB-9D3B-C22EDEF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E1D-040D-46F7-8970-7AD23A1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9C5-7173-4DA8-87D5-4CC4B13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2A86-4AC5-4622-AC8E-55CA6614D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0:33:46Z</dcterms:modified>
  <cp:revision>3</cp:revision>
  <dc:subject/>
  <dc:title>Moon Shots</dc:title>
</cp:coreProperties>
</file>